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de3ba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 Rounded MT Bold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Arial Rounded MT Bol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55B6-2329-4741-901F-13C7F235B1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Purpose of This Ministry Session—People wil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dentify areas where they have rebelled against God-given author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Understand that complaining, arrogance and negative attitudes are forms of rebell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Realize how God sees rebell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Receive faith for what God wants to do through a brief testimo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f desired, receive additional ministry in an area not yet cov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No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The teaching portion of this session should be fairly short. Clip through the teaching in order to allow time for interaction and mini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-15 minutes teaching on impurity and pu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 minutes for a brief testimo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t is important to follow the guidelines above, in order to allow 25-30 minutes for mini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ou don’t have to dwell on these. They are listed to help people become aware of areas of rebellion and arrogance that may be in their li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Give people one or two minutes to reconsider this s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Is there area that we have not covered where you would like ministry? Or is there a section you would like to go back to to receive further praye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Again, those of us on the retreat leadership team are available to help you if you want more in depth minist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ray this prayer out lou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These are areas where you may sense bondage. As you discern bondage, take authority over any oppressing spiri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What is rebellion? Here’s a defini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Read the Scripture on the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Rebellion is the root sin behind all sins. It is choosing our way instead of God’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Follow the straightforward teaching on the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On the slide the man bangs his fist on the table as part of a little video cl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These are some of  the people or institutions that many of us have rebelled against. Rebellion toward an authority is usually also rebellion against Go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God calls us to submission not rebellion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Because unforgiveness is often the root of rebellion, we preceded this session with the one on forgivenes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As you move through this section if you think of other people that you are holding resentment toward, stop and forgive th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Rebellion often expresses itself as complaining and grumbling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According to Scripture, if we have negative attitudes toward those in authority over us, we are probably rebelling toward Go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God wants to free us to have thankful, positive attitud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 Rounded MT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 Rounded MT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 Rounded MT 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 Rounded MT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 Rounded MT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 Rounded MT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 Rounded MT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 Rounded MT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81a"/>
            </a:gs>
            <a:gs pos="50000">
              <a:srgbClr val="081d58"/>
            </a:gs>
            <a:gs pos="100000">
              <a:srgbClr val="02081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5240" y="241200"/>
            <a:ext cx="8813520" cy="6299280"/>
          </a:xfrm>
          <a:prstGeom prst="rect">
            <a:avLst/>
          </a:prstGeom>
          <a:noFill/>
          <a:ln w="25560">
            <a:solidFill>
              <a:srgbClr val="a2c1f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de3b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 rot="10800000">
            <a:off x="6539040" y="158760"/>
            <a:ext cx="769680" cy="673200"/>
          </a:xfrm>
          <a:prstGeom prst="triangle">
            <a:avLst>
              <a:gd name="adj" fmla="val 49986"/>
            </a:avLst>
          </a:prstGeom>
          <a:solidFill>
            <a:srgbClr val="676767"/>
          </a:solidFill>
          <a:ln w="1260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de3b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 rot="10800000">
            <a:off x="6407280" y="82440"/>
            <a:ext cx="769680" cy="673200"/>
          </a:xfrm>
          <a:prstGeom prst="triangle">
            <a:avLst>
              <a:gd name="adj" fmla="val 49986"/>
            </a:avLst>
          </a:prstGeom>
          <a:solidFill>
            <a:srgbClr val="618ffd"/>
          </a:solidFill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de3b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30560" y="6119640"/>
            <a:ext cx="769680" cy="673200"/>
          </a:xfrm>
          <a:prstGeom prst="triangle">
            <a:avLst>
              <a:gd name="adj" fmla="val 49986"/>
            </a:avLst>
          </a:prstGeom>
          <a:solidFill>
            <a:srgbClr val="676767"/>
          </a:solidFill>
          <a:ln w="1260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de3b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08080" y="6026040"/>
            <a:ext cx="770040" cy="673200"/>
          </a:xfrm>
          <a:prstGeom prst="triangle">
            <a:avLst>
              <a:gd name="adj" fmla="val 49986"/>
            </a:avLst>
          </a:prstGeom>
          <a:solidFill>
            <a:srgbClr val="618ffd"/>
          </a:solidFill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de3ba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1d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1dc00"/>
              </a:buClr>
              <a:buSzPct val="64000"/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1d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1d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de3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de3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 Rounded MT Bold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81a"/>
            </a:gs>
            <a:gs pos="50000">
              <a:srgbClr val="081d58"/>
            </a:gs>
            <a:gs pos="100000">
              <a:srgbClr val="02081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afd00"/>
                </a:solidFill>
                <a:latin typeface="Arial"/>
              </a:rPr>
              <a:t>От бунтарства к подчинению</a:t>
            </a:r>
            <a:endParaRPr b="0" lang="en-US" sz="6000" spc="-1" strike="noStrike">
              <a:solidFill>
                <a:srgbClr val="fafd00"/>
              </a:solidFill>
              <a:latin typeface="Arial Rounded M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2590560"/>
            <a:ext cx="80010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еминар “Встреча с Богом”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Шестая сессия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4344840"/>
            <a:ext cx="74674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de3ba"/>
                </a:solidFill>
                <a:latin typeface="Arial"/>
              </a:rPr>
              <a:t>Copyright © 1999 TOUCH Outreach Ministries.</a:t>
            </a:r>
            <a:endParaRPr b="0" lang="en-US" sz="2400" spc="-1" strike="noStrike">
              <a:solidFill>
                <a:srgbClr val="fde3b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de3ba"/>
                </a:solidFill>
                <a:latin typeface="Arial"/>
              </a:rPr>
              <a:t>Лидеры церквей, использующие материалы семинара</a:t>
            </a:r>
            <a:br>
              <a:rPr sz="2000"/>
            </a:br>
            <a:r>
              <a:rPr b="0" lang="ru-RU" sz="2000" spc="-1" strike="noStrike">
                <a:solidFill>
                  <a:srgbClr val="fde3ba"/>
                </a:solidFill>
                <a:latin typeface="Arial"/>
              </a:rPr>
              <a:t>“Встреча с Богом”, подготовленные служением TOUCH могут использовать эту PowerPoint-презентацию в рамках своей поместной церкви. </a:t>
            </a:r>
            <a:endParaRPr b="0" lang="en-US" sz="2000" spc="-1" strike="noStrike">
              <a:solidFill>
                <a:srgbClr val="fde3b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de3ba"/>
                </a:solidFill>
                <a:latin typeface="Arial"/>
              </a:rPr>
              <a:t>Однако, никакая ее часть не может быть распространена за пределами вашей поместной церкви.</a:t>
            </a:r>
            <a:endParaRPr b="0" lang="en-US" sz="2000" spc="-1" strike="noStrike">
              <a:solidFill>
                <a:srgbClr val="fde3b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81a"/>
            </a:gs>
            <a:gs pos="50000">
              <a:srgbClr val="081d58"/>
            </a:gs>
            <a:gs pos="100000">
              <a:srgbClr val="02081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afd00"/>
                </a:solidFill>
                <a:latin typeface="Arial"/>
              </a:rPr>
              <a:t>Другие формы бунтарства</a:t>
            </a:r>
            <a:endParaRPr b="0" lang="en-US" sz="4800" spc="-1" strike="noStrike">
              <a:solidFill>
                <a:srgbClr val="fafd00"/>
              </a:solidFill>
              <a:latin typeface="Arial Rounded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уждение други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ордыня и высокомер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сизм (коллективное или национальное высокомерие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амоправедность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егативное отношение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андализ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Жестокость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81a"/>
            </a:gs>
            <a:gs pos="50000">
              <a:srgbClr val="081d58"/>
            </a:gs>
            <a:gs pos="100000">
              <a:srgbClr val="02081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13440" y="885960"/>
            <a:ext cx="2333520" cy="23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de3ba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82844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afd00"/>
                </a:solidFill>
                <a:latin typeface="Arial"/>
              </a:rPr>
              <a:t>Уделите минуту для того, чтобы отметить области, в которых вы бунтовали.</a:t>
            </a:r>
            <a:endParaRPr b="0" lang="en-US" sz="4000" spc="-1" strike="noStrike">
              <a:solidFill>
                <a:srgbClr val="fafd00"/>
              </a:solidFill>
              <a:latin typeface="Arial Rounded MT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680" y="4267080"/>
            <a:ext cx="70106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 кроме того..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990720"/>
            <a:ext cx="2797200" cy="2328840"/>
          </a:xfrm>
          <a:custGeom>
            <a:avLst/>
            <a:gdLst/>
            <a:ahLst/>
            <a:rect l="l" t="t" r="r" b="b"/>
            <a:pathLst>
              <a:path w="1762" h="1467">
                <a:moveTo>
                  <a:pt x="1761" y="218"/>
                </a:moveTo>
                <a:lnTo>
                  <a:pt x="1645" y="261"/>
                </a:lnTo>
                <a:lnTo>
                  <a:pt x="1514" y="348"/>
                </a:lnTo>
                <a:lnTo>
                  <a:pt x="1266" y="523"/>
                </a:lnTo>
                <a:lnTo>
                  <a:pt x="698" y="1074"/>
                </a:lnTo>
                <a:lnTo>
                  <a:pt x="553" y="1234"/>
                </a:lnTo>
                <a:lnTo>
                  <a:pt x="349" y="1466"/>
                </a:lnTo>
                <a:lnTo>
                  <a:pt x="291" y="1307"/>
                </a:lnTo>
                <a:lnTo>
                  <a:pt x="203" y="1147"/>
                </a:lnTo>
                <a:lnTo>
                  <a:pt x="0" y="770"/>
                </a:lnTo>
                <a:lnTo>
                  <a:pt x="0" y="755"/>
                </a:lnTo>
                <a:lnTo>
                  <a:pt x="29" y="726"/>
                </a:lnTo>
                <a:lnTo>
                  <a:pt x="87" y="668"/>
                </a:lnTo>
                <a:lnTo>
                  <a:pt x="218" y="523"/>
                </a:lnTo>
                <a:lnTo>
                  <a:pt x="378" y="842"/>
                </a:lnTo>
                <a:lnTo>
                  <a:pt x="422" y="929"/>
                </a:lnTo>
                <a:lnTo>
                  <a:pt x="480" y="1060"/>
                </a:lnTo>
                <a:lnTo>
                  <a:pt x="727" y="755"/>
                </a:lnTo>
                <a:lnTo>
                  <a:pt x="1150" y="290"/>
                </a:lnTo>
                <a:lnTo>
                  <a:pt x="1353" y="131"/>
                </a:lnTo>
                <a:lnTo>
                  <a:pt x="1470" y="44"/>
                </a:lnTo>
                <a:lnTo>
                  <a:pt x="1557" y="0"/>
                </a:lnTo>
                <a:lnTo>
                  <a:pt x="1688" y="116"/>
                </a:lnTo>
                <a:lnTo>
                  <a:pt x="1761" y="218"/>
                </a:lnTo>
              </a:path>
            </a:pathLst>
          </a:custGeom>
          <a:solidFill>
            <a:srgbClr val="de00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de3b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81a"/>
            </a:gs>
            <a:gs pos="50000">
              <a:srgbClr val="081d58"/>
            </a:gs>
            <a:gs pos="100000">
              <a:srgbClr val="02081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267600" y="885960"/>
            <a:ext cx="2079360" cy="207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de3ba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Есть ли какие-то другие сферы, в которых вы хотите получить служение?</a:t>
            </a:r>
            <a:endParaRPr b="0" lang="en-US" sz="4000" spc="-1" strike="noStrike">
              <a:solidFill>
                <a:srgbClr val="fafd00"/>
              </a:solidFill>
              <a:latin typeface="Arial Rounded MT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52280" y="335268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ы можете также записать другие грехи или проблемные области в нижней части страницы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пример, если вы вспомнили нечто, не упомянутое в течение прошедших пяти сессий или в чем бы вы хотели получить более основательное служение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990720"/>
            <a:ext cx="2492280" cy="2058840"/>
          </a:xfrm>
          <a:custGeom>
            <a:avLst/>
            <a:gdLst/>
            <a:ahLst/>
            <a:rect l="l" t="t" r="r" b="b"/>
            <a:pathLst>
              <a:path w="1570" h="1297">
                <a:moveTo>
                  <a:pt x="1569" y="192"/>
                </a:moveTo>
                <a:lnTo>
                  <a:pt x="1465" y="230"/>
                </a:lnTo>
                <a:lnTo>
                  <a:pt x="1348" y="307"/>
                </a:lnTo>
                <a:lnTo>
                  <a:pt x="1127" y="462"/>
                </a:lnTo>
                <a:lnTo>
                  <a:pt x="621" y="949"/>
                </a:lnTo>
                <a:lnTo>
                  <a:pt x="492" y="1090"/>
                </a:lnTo>
                <a:lnTo>
                  <a:pt x="310" y="1296"/>
                </a:lnTo>
                <a:lnTo>
                  <a:pt x="259" y="1155"/>
                </a:lnTo>
                <a:lnTo>
                  <a:pt x="180" y="1013"/>
                </a:lnTo>
                <a:lnTo>
                  <a:pt x="0" y="680"/>
                </a:lnTo>
                <a:lnTo>
                  <a:pt x="0" y="667"/>
                </a:lnTo>
                <a:lnTo>
                  <a:pt x="25" y="641"/>
                </a:lnTo>
                <a:lnTo>
                  <a:pt x="77" y="590"/>
                </a:lnTo>
                <a:lnTo>
                  <a:pt x="194" y="462"/>
                </a:lnTo>
                <a:lnTo>
                  <a:pt x="336" y="744"/>
                </a:lnTo>
                <a:lnTo>
                  <a:pt x="375" y="821"/>
                </a:lnTo>
                <a:lnTo>
                  <a:pt x="427" y="937"/>
                </a:lnTo>
                <a:lnTo>
                  <a:pt x="647" y="667"/>
                </a:lnTo>
                <a:lnTo>
                  <a:pt x="1024" y="256"/>
                </a:lnTo>
                <a:lnTo>
                  <a:pt x="1205" y="115"/>
                </a:lnTo>
                <a:lnTo>
                  <a:pt x="1309" y="38"/>
                </a:lnTo>
                <a:lnTo>
                  <a:pt x="1387" y="0"/>
                </a:lnTo>
                <a:lnTo>
                  <a:pt x="1503" y="102"/>
                </a:lnTo>
                <a:lnTo>
                  <a:pt x="1569" y="192"/>
                </a:lnTo>
              </a:path>
            </a:pathLst>
          </a:custGeom>
          <a:solidFill>
            <a:srgbClr val="de00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de3b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81a"/>
            </a:gs>
            <a:gs pos="50000">
              <a:srgbClr val="081d58"/>
            </a:gs>
            <a:gs pos="100000">
              <a:srgbClr val="02081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afd00"/>
                </a:solidFill>
                <a:latin typeface="Arial"/>
              </a:rPr>
              <a:t>Молитва подчинения Богу</a:t>
            </a:r>
            <a:endParaRPr b="0" lang="en-US" sz="4800" spc="-1" strike="noStrike">
              <a:solidFill>
                <a:srgbClr val="fafd00"/>
              </a:solidFill>
              <a:latin typeface="Arial Rounded MT 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04560" y="15235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ебесный Отец, Ты сказал что “бунтарство как грех гадания и высокомерие как злое идолопоклонство”. Я бунтовал против Тебя своим отношением и действиями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еперь я выбираю подчиниться Тебе и властям, которых Ты поставил в моей жизни. Я отворачиваюсь от бунтарства, гордости и ропота. Прошу тебя дать мне благодарное и покорное сердце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о имя Господа моего, Иисуса Христа. Аминь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81a"/>
            </a:gs>
            <a:gs pos="50000">
              <a:srgbClr val="081d58"/>
            </a:gs>
            <a:gs pos="100000">
              <a:srgbClr val="02081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Возможные духи угнетения</a:t>
            </a:r>
            <a:endParaRPr b="0" lang="en-US" sz="4400" spc="-1" strike="noStrike">
              <a:solidFill>
                <a:srgbClr val="fafd00"/>
              </a:solidFill>
              <a:latin typeface="Arial Rounded MT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верженность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амосожален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епрощен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унтарств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сть или злопамятств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00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воевол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ордын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оперничеств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нтроль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лдовств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81a"/>
            </a:gs>
            <a:gs pos="50000">
              <a:srgbClr val="081d58"/>
            </a:gs>
            <a:gs pos="100000">
              <a:srgbClr val="02081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14400" y="4191120"/>
            <a:ext cx="74674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de3ba"/>
                </a:solidFill>
                <a:latin typeface="Arial"/>
              </a:rPr>
              <a:t>Copyright © 1999 TOUCH Outreach Ministries.</a:t>
            </a:r>
            <a:endParaRPr b="0" lang="en-US" sz="2400" spc="-1" strike="noStrike">
              <a:solidFill>
                <a:srgbClr val="fde3b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de3ba"/>
                </a:solidFill>
                <a:latin typeface="Arial"/>
              </a:rPr>
              <a:t>Лидеры церквей, использующие материалы семинара</a:t>
            </a:r>
            <a:br>
              <a:rPr sz="2000"/>
            </a:br>
            <a:r>
              <a:rPr b="0" lang="ru-RU" sz="2000" spc="-1" strike="noStrike">
                <a:solidFill>
                  <a:srgbClr val="fde3ba"/>
                </a:solidFill>
                <a:latin typeface="Arial"/>
              </a:rPr>
              <a:t>“Встреча с Богом”, подготовленные служением TOUCH могут использовать эту PowerPoint-презентацию в рамках своей поместной церкви. </a:t>
            </a:r>
            <a:endParaRPr b="0" lang="en-US" sz="2000" spc="-1" strike="noStrike">
              <a:solidFill>
                <a:srgbClr val="fde3b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de3ba"/>
                </a:solidFill>
                <a:latin typeface="Arial"/>
              </a:rPr>
              <a:t>Однако, никакая ее часть не может быть распространена за пределами вашей поместной церкви.</a:t>
            </a:r>
            <a:endParaRPr b="0" lang="en-US" sz="2000" spc="-1" strike="noStrike">
              <a:solidFill>
                <a:srgbClr val="fde3b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81a"/>
            </a:gs>
            <a:gs pos="50000">
              <a:srgbClr val="081d58"/>
            </a:gs>
            <a:gs pos="100000">
              <a:srgbClr val="02081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afd00"/>
                </a:solidFill>
                <a:latin typeface="Arial"/>
              </a:rPr>
              <a:t>Бунтарство</a:t>
            </a:r>
            <a:endParaRPr b="0" lang="en-US" sz="7200" spc="-1" strike="noStrike">
              <a:solidFill>
                <a:srgbClr val="fafd00"/>
              </a:solidFill>
              <a:latin typeface="Arial Rounded MT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3276360"/>
            <a:ext cx="746784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Это акт или действие, бросающее вызов власти или установленному обычаю.”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(словарное определение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81a"/>
            </a:gs>
            <a:gs pos="50000">
              <a:srgbClr val="081d58"/>
            </a:gs>
            <a:gs pos="100000">
              <a:srgbClr val="02081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afd00"/>
                </a:solidFill>
                <a:latin typeface="Arial"/>
              </a:rPr>
              <a:t>Слово Божье</a:t>
            </a:r>
            <a:endParaRPr b="0" lang="en-US" sz="6000" spc="-1" strike="noStrike">
              <a:solidFill>
                <a:srgbClr val="fafd00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de3ba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de3ba"/>
                </a:solidFill>
                <a:latin typeface="Arial"/>
              </a:rPr>
              <a:t>Ибо непокорность есть такой же грех, что волшебство, и противление то же, что идолопоклонство; за то, что ты отверг слово Господа, и Он отверг тебя, чтобы ты не был царем. </a:t>
            </a:r>
            <a:r>
              <a:rPr b="1" lang="en-US" sz="3200" spc="-1" strike="noStrike">
                <a:solidFill>
                  <a:srgbClr val="fde3ba"/>
                </a:solidFill>
                <a:latin typeface="Arial"/>
              </a:rPr>
              <a:t>(1 Царств 15:23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e3ba"/>
                </a:solidFill>
                <a:latin typeface="Arial"/>
              </a:rPr>
              <a:t>Бунтарство лежит в корне всех грехов. “Я все сделаю по-своему!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81a"/>
            </a:gs>
            <a:gs pos="50000">
              <a:srgbClr val="081d58"/>
            </a:gs>
            <a:gs pos="100000">
              <a:srgbClr val="02081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afd00"/>
                </a:solidFill>
                <a:latin typeface="Arial"/>
              </a:rPr>
              <a:t>Бунтарство</a:t>
            </a:r>
            <a:endParaRPr b="0" lang="en-US" sz="6600" spc="-1" strike="noStrike">
              <a:solidFill>
                <a:srgbClr val="fafd00"/>
              </a:solidFill>
              <a:latin typeface="Arial Rounded MT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Единственный случай когда мы можем бунтовать — это когда подчинение власти потребовало бы от нас непослушания Богу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ы живем в мятежные времена, в бунтарской культуре и народе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Бунтарство открывает нас для атак сатаны и его обмана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81a"/>
            </a:gs>
            <a:gs pos="50000">
              <a:srgbClr val="081d58"/>
            </a:gs>
            <a:gs pos="100000">
              <a:srgbClr val="02081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afd00"/>
                </a:solidFill>
                <a:latin typeface="Arial"/>
              </a:rPr>
              <a:t>Мы бунтуем против...</a:t>
            </a:r>
            <a:endParaRPr b="0" lang="en-US" sz="6000" spc="-1" strike="noStrike">
              <a:solidFill>
                <a:srgbClr val="fafd00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765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51dc00"/>
              </a:buClr>
              <a:buSzPct val="75000"/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ог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51dc00"/>
              </a:buClr>
              <a:buSzPct val="75000"/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одителе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51dc00"/>
              </a:buClr>
              <a:buSzPct val="75000"/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чителе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51dc00"/>
              </a:buClr>
              <a:buSzPct val="75000"/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Церкв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51dc00"/>
              </a:buClr>
              <a:buSzPct val="75000"/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авительства (налоги, законы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51dc00"/>
              </a:buClr>
              <a:buSzPct val="75000"/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уководителе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51dc00"/>
              </a:buClr>
              <a:buSzPct val="75000"/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уже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51dc00"/>
              </a:buClr>
              <a:buSzPct val="75000"/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ругих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306072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81a"/>
            </a:gs>
            <a:gs pos="50000">
              <a:srgbClr val="081d58"/>
            </a:gs>
            <a:gs pos="100000">
              <a:srgbClr val="02081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afd00"/>
                </a:solidFill>
                <a:latin typeface="Arial"/>
              </a:rPr>
              <a:t>Слово Божье</a:t>
            </a:r>
            <a:endParaRPr b="0" lang="en-US" sz="6000" spc="-1" strike="noStrike">
              <a:solidFill>
                <a:srgbClr val="fafd00"/>
              </a:solidFill>
              <a:latin typeface="Arial Rounded MT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de3ba"/>
                </a:solidFill>
                <a:latin typeface="Arial"/>
              </a:rPr>
              <a:t>Итак, будьте покорны всякому человеческому начальству, для Господа: царю ли, как верховной власти, правителям ли как от Него посылаемым…</a:t>
            </a:r>
            <a:r>
              <a:rPr b="1" lang="ru-RU" sz="3200" spc="-1" strike="noStrike">
                <a:solidFill>
                  <a:srgbClr val="fde3ba"/>
                </a:solidFill>
                <a:latin typeface="Arial"/>
              </a:rPr>
              <a:t> (1 Петра 2:13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de3ba"/>
                </a:solidFill>
                <a:latin typeface="Arial"/>
              </a:rPr>
              <a:t>Повинуясь друг другу в страхе Божьем...</a:t>
            </a:r>
            <a:r>
              <a:rPr b="1" lang="ru-RU" sz="3200" spc="-1" strike="noStrike">
                <a:solidFill>
                  <a:srgbClr val="fde3ba"/>
                </a:solidFill>
                <a:latin typeface="Arial"/>
              </a:rPr>
              <a:t> (Ефесянам 5:21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81a"/>
            </a:gs>
            <a:gs pos="50000">
              <a:srgbClr val="081d58"/>
            </a:gs>
            <a:gs pos="100000">
              <a:srgbClr val="02081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Корни бунтарства</a:t>
            </a:r>
            <a:endParaRPr b="0" lang="en-US" sz="4800" spc="-1" strike="noStrike">
              <a:solidFill>
                <a:srgbClr val="fafd00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чень часто источником бунта и отвержения является НЕПРОЩЕНИЕ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гда нам больно и мы чувствуем себя отверженными, мы начинаем бунтовать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Если у вас есть проблемы с подчинением, то вам, возможно, необходимо остановиться и простить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81a"/>
            </a:gs>
            <a:gs pos="50000">
              <a:srgbClr val="081d58"/>
            </a:gs>
            <a:gs pos="100000">
              <a:srgbClr val="02081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afd00"/>
                </a:solidFill>
                <a:latin typeface="Arial"/>
              </a:rPr>
              <a:t>Другие формы бунтарства</a:t>
            </a:r>
            <a:endParaRPr b="0" lang="en-US" sz="4800" spc="-1" strike="noStrike">
              <a:solidFill>
                <a:srgbClr val="fafd00"/>
              </a:solidFill>
              <a:latin typeface="Arial Rounded MT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опот и недовольств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1d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de3ba"/>
                </a:solidFill>
                <a:latin typeface="Arial"/>
              </a:rPr>
              <a:t>Все делайте без ропота и сомнения, чтобы вам быть неукоризненными и чистыми, чадами Божьими непорочными среди строптивого и развращенного рода.</a:t>
            </a:r>
            <a:r>
              <a:rPr b="1" lang="ru-RU" sz="2800" spc="-1" strike="noStrike">
                <a:solidFill>
                  <a:srgbClr val="fde3ba"/>
                </a:solidFill>
                <a:latin typeface="Arial"/>
              </a:rPr>
              <a:t> (Флп. 2:14-15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1d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de3ba"/>
                </a:solidFill>
                <a:latin typeface="Arial"/>
              </a:rPr>
              <a:t>Не на нас ропот ваш , но на Господа.</a:t>
            </a:r>
            <a:r>
              <a:rPr b="1" lang="ru-RU" sz="2800" spc="-1" strike="noStrike">
                <a:solidFill>
                  <a:srgbClr val="fde3ba"/>
                </a:solidFill>
                <a:latin typeface="Arial"/>
              </a:rPr>
              <a:t> (Сказал Моисей в Исх. 16:8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81a"/>
            </a:gs>
            <a:gs pos="50000">
              <a:srgbClr val="081d58"/>
            </a:gs>
            <a:gs pos="100000">
              <a:srgbClr val="02081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afd00"/>
                </a:solidFill>
                <a:latin typeface="Arial"/>
              </a:rPr>
              <a:t>Другие формы бунтарства</a:t>
            </a:r>
            <a:endParaRPr b="0" lang="en-US" sz="4800" spc="-1" strike="noStrike">
              <a:solidFill>
                <a:srgbClr val="fafd00"/>
              </a:solidFill>
              <a:latin typeface="Arial Rounded MT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51dc00"/>
              </a:buClr>
              <a:buSzPct val="75000"/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опот и недовольство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Продолжение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51d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de3ba"/>
                </a:solidFill>
                <a:latin typeface="Arial"/>
              </a:rPr>
              <a:t>И все, что вы делаете, словом или делом, все делайте во имя Господа Иисуса Христа, благодаря через Него Бога и Отца. </a:t>
            </a:r>
            <a:r>
              <a:rPr b="1" lang="ru-RU" sz="3200" spc="-1" strike="noStrike">
                <a:solidFill>
                  <a:srgbClr val="fde3ba"/>
                </a:solidFill>
                <a:latin typeface="Arial"/>
              </a:rPr>
              <a:t>(Кол. 3:17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e3ba"/>
                </a:solidFill>
                <a:latin typeface="Arial"/>
              </a:rPr>
              <a:t>Христос предлагает нам свободу.</a:t>
            </a:r>
            <a:br>
              <a:rPr sz="3200"/>
            </a:br>
            <a:r>
              <a:rPr b="1" lang="ru-RU" sz="3200" spc="-1" strike="noStrike">
                <a:solidFill>
                  <a:srgbClr val="fde3ba"/>
                </a:solidFill>
                <a:latin typeface="Arial"/>
              </a:rPr>
              <a:t>Мы не обязаны быть ропотниками. Мы можем иметь сердца, полные радости и благодарности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17:37:34Z</dcterms:created>
  <dc:creator>Jim Egli</dc:creator>
  <dc:description/>
  <dc:language>en-US</dc:language>
  <cp:lastModifiedBy>Andrey</cp:lastModifiedBy>
  <cp:lastPrinted>1999-10-14T19:10:22Z</cp:lastPrinted>
  <dcterms:modified xsi:type="dcterms:W3CDTF">2002-11-14T14:00:23Z</dcterms:modified>
  <cp:revision>30</cp:revision>
  <dc:subject/>
  <dc:title>From Rebellion to Submission</dc:title>
</cp:coreProperties>
</file>